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0AD0-E887-4125-AA11-FCF280F6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1058-29B2-4AFF-A49B-BED83BD7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C119-C654-4C50-A58C-380186F6B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732F-F1DF-4726-9E20-141816365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6D22-5A83-49EF-ABCF-7342CB2A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DEA0-44FB-4CC9-81EE-D4D3CCA4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40F2-A2B4-477E-B75F-C7FCE9B2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555A-BD49-495E-86B2-DA92D08E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D102-92EC-451B-8F4D-2439EA8C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FCB3-B494-445C-8B02-47F61AE9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B645-05E9-4905-AFED-8C57F53C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3BC0-1446-4949-B442-FE385CCE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62B9-03FB-42F8-8DE0-914183C48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impawards.com/2001/american_pie_two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impawards.com/2009/ugly_truth_ver2_xlg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impawards.com/2004/saw_ver3_xlg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impawards.com/2005/amityville_horror_xlg.htm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: 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o develop understanding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f how to apply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EDIA LANGUAGE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o your cours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Jo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app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ptim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deal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mag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Jealous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ishones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ward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0024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notation and De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8208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ask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Look at the film post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connotations do you get from the mise-en-scene on your poster? Consider Setting, Props, Costume, Colour and Character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Return to Main Page for American Pie 2 Post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8360" y="125280"/>
            <a:ext cx="4545360" cy="67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The Ugly Truth Poster - Click to View Extra Larg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0"/>
            <a:ext cx="4614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It's a Boy Girl Thing Poster"/>
          <p:cNvPicPr/>
          <p:nvPr/>
        </p:nvPicPr>
        <p:blipFill>
          <a:blip r:embed="rId1"/>
          <a:stretch/>
        </p:blipFill>
        <p:spPr>
          <a:xfrm>
            <a:off x="2190600" y="61920"/>
            <a:ext cx="476280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The Exorcist Poster"/>
          <p:cNvPicPr/>
          <p:nvPr/>
        </p:nvPicPr>
        <p:blipFill>
          <a:blip r:embed="rId1"/>
          <a:stretch/>
        </p:blipFill>
        <p:spPr>
          <a:xfrm>
            <a:off x="2382840" y="-22320"/>
            <a:ext cx="4618080" cy="683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Saw Poster - Click to View Extra Larg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55760" y="0"/>
            <a:ext cx="4745160" cy="70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The Amityville Horror Poster - Click to View Extra Larg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79600" y="189000"/>
            <a:ext cx="4626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rthes and My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lieved that image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inforced cultural my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rough their conn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rxi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dea in that this served to empower those in economic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define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rst ord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cond ord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connotations) 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, red wine in French socie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irst order sig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it is a dark, red bottle signifying it is a bottle of w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econd order sig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“Bourgeois” take this signifier and apply their own (sometimes incorrect) emphasis to it, making wine a new signifier of a healthy dr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what symbolism would your target audience “read” into the images in your media tex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lthusser and Interpel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lieved in the power of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de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 thought the recognition (interpellation) of ideology turned individuals in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become bound to the ideology - they do not question it because it appear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al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what ideological values do your media texts cont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“media language”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lating key media theories to your coursework, especial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mi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mi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t-moder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x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chnical language to describe conventions you have used or not (or subverted), especially in relation to technic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emio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94920" y="1747440"/>
            <a:ext cx="8209080" cy="39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tudy of signs and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think of any examples of signs or symbo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would you define a sign or a symb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ings that represent something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0024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notation and De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8208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no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you actually see (e.g. a rose is a red flow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no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something might stand for or represent (e.g. to give someone a red rose might suggest lov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ise-en-scene in your trailer, poster and magazine can connote complex ideas to the viewer very quick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sk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ook at the following colours – what connotations do they have to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ther semiotic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tony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when one sign represents a greater whole. For example the statue of liberty is a sign that represent the US as a 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ymbolism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 visual metaph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chorage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ext that is used to assist in the reading of the image- anchors the mea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o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a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arm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xci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h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F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loo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ggr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Fert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ig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if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Good lu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Generos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nv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Jealous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nexperi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e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ranquil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ld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nf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nservat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leanl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710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ophist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Form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leg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Weal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ad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De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Myst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Under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Unhapp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1:58:21Z</dcterms:created>
  <dc:creator>#</dc:creator>
  <dc:description/>
  <dc:language>en-US</dc:language>
  <cp:lastModifiedBy>ms</cp:lastModifiedBy>
  <dcterms:modified xsi:type="dcterms:W3CDTF">2011-05-12T12:14:06Z</dcterms:modified>
  <cp:revision>11</cp:revision>
  <dc:subject/>
  <dc:title>Semiotics</dc:title>
</cp:coreProperties>
</file>